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907588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4520" y="333360"/>
            <a:ext cx="924408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44160" y="1599840"/>
            <a:ext cx="9271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4160" y="4106520"/>
            <a:ext cx="9271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4520" y="333360"/>
            <a:ext cx="924408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4160" y="1599840"/>
            <a:ext cx="45241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94720" y="1599840"/>
            <a:ext cx="45241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44160" y="4106520"/>
            <a:ext cx="45241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094720" y="4106520"/>
            <a:ext cx="45241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4520" y="333360"/>
            <a:ext cx="924408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4160" y="1599840"/>
            <a:ext cx="29851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79040" y="1599840"/>
            <a:ext cx="29851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613560" y="1599840"/>
            <a:ext cx="29851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44160" y="4106520"/>
            <a:ext cx="29851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79040" y="4106520"/>
            <a:ext cx="29851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613560" y="4106520"/>
            <a:ext cx="29851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4520" y="333360"/>
            <a:ext cx="924408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344160" y="1599840"/>
            <a:ext cx="9271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4520" y="333360"/>
            <a:ext cx="924408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4160" y="1599840"/>
            <a:ext cx="927108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4520" y="333360"/>
            <a:ext cx="924408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4160" y="1599840"/>
            <a:ext cx="45241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4720" y="1599840"/>
            <a:ext cx="45241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4520" y="333360"/>
            <a:ext cx="924408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344520" y="333360"/>
            <a:ext cx="9244080" cy="58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4520" y="333360"/>
            <a:ext cx="924408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4160" y="1599840"/>
            <a:ext cx="45241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94720" y="1599840"/>
            <a:ext cx="45241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4160" y="4106520"/>
            <a:ext cx="45241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4520" y="333360"/>
            <a:ext cx="924408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4160" y="1599840"/>
            <a:ext cx="45241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94720" y="1599840"/>
            <a:ext cx="45241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94720" y="4106520"/>
            <a:ext cx="45241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4520" y="333360"/>
            <a:ext cx="924408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4160" y="1599840"/>
            <a:ext cx="45241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94720" y="1599840"/>
            <a:ext cx="45241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44160" y="4106520"/>
            <a:ext cx="9271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55440" y="0"/>
            <a:ext cx="9977400" cy="6885000"/>
            <a:chOff x="-55440" y="0"/>
            <a:chExt cx="9977400" cy="6885000"/>
          </a:xfrm>
        </p:grpSpPr>
        <p:sp>
          <p:nvSpPr>
            <p:cNvPr id="1" name=""/>
            <p:cNvSpPr/>
            <p:nvPr/>
          </p:nvSpPr>
          <p:spPr>
            <a:xfrm rot="5400000">
              <a:off x="4779360" y="1863720"/>
              <a:ext cx="417600" cy="9577080"/>
            </a:xfrm>
            <a:prstGeom prst="rect">
              <a:avLst/>
            </a:prstGeom>
            <a:solidFill>
              <a:srgbClr val="be2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15840" y="0"/>
              <a:ext cx="287280" cy="6862680"/>
            </a:xfrm>
            <a:prstGeom prst="rect">
              <a:avLst/>
            </a:prstGeom>
            <a:solidFill>
              <a:srgbClr val="be2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634680" y="0"/>
              <a:ext cx="287280" cy="6862680"/>
            </a:xfrm>
            <a:prstGeom prst="rect">
              <a:avLst/>
            </a:prstGeom>
            <a:solidFill>
              <a:srgbClr val="be2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5400000">
              <a:off x="4703760" y="-4714920"/>
              <a:ext cx="287280" cy="9717120"/>
            </a:xfrm>
            <a:prstGeom prst="rect">
              <a:avLst/>
            </a:prstGeom>
            <a:solidFill>
              <a:srgbClr val="be2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16200000">
              <a:off x="-2808720" y="3089880"/>
              <a:ext cx="5905440" cy="246240"/>
            </a:xfrm>
            <a:prstGeom prst="rect">
              <a:avLst/>
            </a:prstGeom>
            <a:solidFill>
              <a:srgbClr val="be2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f7a66"/>
                  </a:solidFill>
                  <a:latin typeface="Comic Sans MS"/>
                </a:rPr>
                <a:t>Media in </a:t>
              </a:r>
              <a:r>
                <a:rPr b="1" i="1" lang="en-US" sz="1000" spc="-1" strike="noStrike">
                  <a:solidFill>
                    <a:srgbClr val="cf7a66"/>
                  </a:solidFill>
                  <a:latin typeface="Comic Sans MS"/>
                </a:rPr>
                <a:t>MOTION </a:t>
              </a:r>
              <a:r>
                <a:rPr b="1" i="1" lang="en-US" sz="1000" spc="-1" strike="noStrike">
                  <a:solidFill>
                    <a:srgbClr val="cf7a66"/>
                  </a:solidFill>
                  <a:latin typeface="Comic Sans MS"/>
                </a:rPr>
                <a:t>	</a:t>
              </a:r>
              <a:r>
                <a:rPr b="1" lang="en-US" sz="1000" spc="-1" strike="noStrike">
                  <a:solidFill>
                    <a:srgbClr val="cf7a66"/>
                  </a:solidFill>
                  <a:latin typeface="Comic Sans MS"/>
                </a:rPr>
                <a:t>Media in </a:t>
              </a:r>
              <a:r>
                <a:rPr b="1" i="1" lang="en-US" sz="1000" spc="-1" strike="noStrike">
                  <a:solidFill>
                    <a:srgbClr val="cf7a66"/>
                  </a:solidFill>
                  <a:latin typeface="Comic Sans MS"/>
                </a:rPr>
                <a:t>MOTION </a:t>
              </a:r>
              <a:r>
                <a:rPr b="1" i="1" lang="en-US" sz="1000" spc="-1" strike="noStrike">
                  <a:solidFill>
                    <a:srgbClr val="cf7a66"/>
                  </a:solidFill>
                  <a:latin typeface="Comic Sans MS"/>
                </a:rPr>
                <a:t>	</a:t>
              </a:r>
              <a:r>
                <a:rPr b="1" lang="en-US" sz="1000" spc="-1" strike="noStrike">
                  <a:solidFill>
                    <a:srgbClr val="cf7a66"/>
                  </a:solidFill>
                  <a:latin typeface="Comic Sans MS"/>
                </a:rPr>
                <a:t>Media in </a:t>
              </a:r>
              <a:r>
                <a:rPr b="1" i="1" lang="en-US" sz="1000" spc="-1" strike="noStrike">
                  <a:solidFill>
                    <a:srgbClr val="cf7a66"/>
                  </a:solidFill>
                  <a:latin typeface="Comic Sans MS"/>
                </a:rPr>
                <a:t>MO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274760" y="6499080"/>
              <a:ext cx="2687760" cy="307080"/>
            </a:xfrm>
            <a:prstGeom prst="rect">
              <a:avLst/>
            </a:prstGeom>
            <a:solidFill>
              <a:srgbClr val="be2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f7a66"/>
                  </a:solidFill>
                  <a:latin typeface="Comic Sans MS"/>
                </a:rPr>
                <a:t>Media in </a:t>
              </a:r>
              <a:r>
                <a:rPr b="1" i="1" lang="en-US" sz="1400" spc="-1" strike="noStrike">
                  <a:solidFill>
                    <a:srgbClr val="cf7a66"/>
                  </a:solidFill>
                  <a:latin typeface="Comic Sans MS"/>
                </a:rPr>
                <a:t>MO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767640" y="6499080"/>
              <a:ext cx="2820960" cy="307080"/>
            </a:xfrm>
            <a:prstGeom prst="rect">
              <a:avLst/>
            </a:prstGeom>
            <a:solidFill>
              <a:srgbClr val="be2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f7a66"/>
                  </a:solidFill>
                  <a:latin typeface="Comic Sans MS"/>
                </a:rPr>
                <a:t>Media in </a:t>
              </a:r>
              <a:r>
                <a:rPr b="1" i="1" lang="en-US" sz="1400" spc="-1" strike="noStrike">
                  <a:solidFill>
                    <a:srgbClr val="cf7a66"/>
                  </a:solidFill>
                  <a:latin typeface="Comic Sans MS"/>
                </a:rPr>
                <a:t>MO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6200000">
              <a:off x="-357480" y="6397200"/>
              <a:ext cx="7902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February 04 Mk V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44280"/>
              <a:ext cx="9906120" cy="246240"/>
            </a:xfrm>
            <a:prstGeom prst="rect">
              <a:avLst/>
            </a:prstGeom>
            <a:solidFill>
              <a:srgbClr val="be2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f7a66"/>
                  </a:solidFill>
                  <a:latin typeface="Comic Sans MS"/>
                </a:rPr>
                <a:t>Media in </a:t>
              </a:r>
              <a:r>
                <a:rPr b="1" i="1" lang="en-US" sz="1000" spc="-1" strike="noStrike">
                  <a:solidFill>
                    <a:srgbClr val="cf7a66"/>
                  </a:solidFill>
                  <a:latin typeface="Comic Sans MS"/>
                </a:rPr>
                <a:t>MOTION </a:t>
              </a:r>
              <a:r>
                <a:rPr b="1" i="1" lang="en-US" sz="1000" spc="-1" strike="noStrike">
                  <a:solidFill>
                    <a:srgbClr val="cf7a66"/>
                  </a:solidFill>
                  <a:latin typeface="Comic Sans MS"/>
                </a:rPr>
                <a:t>	</a:t>
              </a:r>
              <a:r>
                <a:rPr b="1" lang="en-US" sz="1000" spc="-1" strike="noStrike">
                  <a:solidFill>
                    <a:srgbClr val="cf7a66"/>
                  </a:solidFill>
                  <a:latin typeface="Comic Sans MS"/>
                </a:rPr>
                <a:t>Media in </a:t>
              </a:r>
              <a:r>
                <a:rPr b="1" i="1" lang="en-US" sz="1000" spc="-1" strike="noStrike">
                  <a:solidFill>
                    <a:srgbClr val="cf7a66"/>
                  </a:solidFill>
                  <a:latin typeface="Comic Sans MS"/>
                </a:rPr>
                <a:t>MOTION </a:t>
              </a:r>
              <a:r>
                <a:rPr b="1" i="1" lang="en-US" sz="1000" spc="-1" strike="noStrike">
                  <a:solidFill>
                    <a:srgbClr val="cf7a66"/>
                  </a:solidFill>
                  <a:latin typeface="Comic Sans MS"/>
                </a:rPr>
                <a:t>	</a:t>
              </a:r>
              <a:r>
                <a:rPr b="1" lang="en-US" sz="1000" spc="-1" strike="noStrike">
                  <a:solidFill>
                    <a:srgbClr val="cf7a66"/>
                  </a:solidFill>
                  <a:latin typeface="Comic Sans MS"/>
                </a:rPr>
                <a:t>Media in </a:t>
              </a:r>
              <a:r>
                <a:rPr b="1" i="1" lang="en-US" sz="1000" spc="-1" strike="noStrike">
                  <a:solidFill>
                    <a:srgbClr val="cf7a66"/>
                  </a:solidFill>
                  <a:latin typeface="Comic Sans MS"/>
                </a:rPr>
                <a:t>MOTION </a:t>
              </a:r>
              <a:r>
                <a:rPr b="1" i="1" lang="en-US" sz="1000" spc="-1" strike="noStrike">
                  <a:solidFill>
                    <a:srgbClr val="cf7a66"/>
                  </a:solidFill>
                  <a:latin typeface="Comic Sans MS"/>
                </a:rPr>
                <a:t>	</a:t>
              </a:r>
              <a:r>
                <a:rPr b="1" lang="en-US" sz="1000" spc="-1" strike="noStrike">
                  <a:solidFill>
                    <a:srgbClr val="cf7a66"/>
                  </a:solidFill>
                  <a:latin typeface="Comic Sans MS"/>
                </a:rPr>
                <a:t>Media in </a:t>
              </a:r>
              <a:r>
                <a:rPr b="1" i="1" lang="en-US" sz="1000" spc="-1" strike="noStrike">
                  <a:solidFill>
                    <a:srgbClr val="cf7a66"/>
                  </a:solidFill>
                  <a:latin typeface="Comic Sans MS"/>
                </a:rPr>
                <a:t>MOTION </a:t>
              </a:r>
              <a:r>
                <a:rPr b="1" i="1" lang="en-US" sz="1000" spc="-1" strike="noStrike">
                  <a:solidFill>
                    <a:srgbClr val="cf7a66"/>
                  </a:solidFill>
                  <a:latin typeface="Comic Sans MS"/>
                </a:rPr>
                <a:t>	</a:t>
              </a:r>
              <a:r>
                <a:rPr b="1" lang="en-US" sz="1000" spc="-1" strike="noStrike">
                  <a:solidFill>
                    <a:srgbClr val="cf7a66"/>
                  </a:solidFill>
                  <a:latin typeface="Comic Sans MS"/>
                </a:rPr>
                <a:t>Media in </a:t>
              </a:r>
              <a:r>
                <a:rPr b="1" i="1" lang="en-US" sz="1000" spc="-1" strike="noStrike">
                  <a:solidFill>
                    <a:srgbClr val="cf7a66"/>
                  </a:solidFill>
                  <a:latin typeface="Comic Sans MS"/>
                </a:rPr>
                <a:t>MO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rot="5400000">
              <a:off x="6693120" y="3197880"/>
              <a:ext cx="6121440" cy="246240"/>
            </a:xfrm>
            <a:prstGeom prst="rect">
              <a:avLst/>
            </a:prstGeom>
            <a:solidFill>
              <a:srgbClr val="be2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f7a66"/>
                  </a:solidFill>
                  <a:latin typeface="Comic Sans MS"/>
                </a:rPr>
                <a:t>Media in </a:t>
              </a:r>
              <a:r>
                <a:rPr b="1" i="1" lang="en-US" sz="1000" spc="-1" strike="noStrike">
                  <a:solidFill>
                    <a:srgbClr val="cf7a66"/>
                  </a:solidFill>
                  <a:latin typeface="Comic Sans MS"/>
                </a:rPr>
                <a:t>MOTION </a:t>
              </a:r>
              <a:r>
                <a:rPr b="1" i="1" lang="en-US" sz="1000" spc="-1" strike="noStrike">
                  <a:solidFill>
                    <a:srgbClr val="cf7a66"/>
                  </a:solidFill>
                  <a:latin typeface="Comic Sans MS"/>
                </a:rPr>
                <a:t>	</a:t>
              </a:r>
              <a:r>
                <a:rPr b="1" lang="en-US" sz="1000" spc="-1" strike="noStrike">
                  <a:solidFill>
                    <a:srgbClr val="cf7a66"/>
                  </a:solidFill>
                  <a:latin typeface="Comic Sans MS"/>
                </a:rPr>
                <a:t>Media in </a:t>
              </a:r>
              <a:r>
                <a:rPr b="1" i="1" lang="en-US" sz="1000" spc="-1" strike="noStrike">
                  <a:solidFill>
                    <a:srgbClr val="cf7a66"/>
                  </a:solidFill>
                  <a:latin typeface="Comic Sans MS"/>
                </a:rPr>
                <a:t>MOTION </a:t>
              </a:r>
              <a:r>
                <a:rPr b="1" i="1" lang="en-US" sz="1000" spc="-1" strike="noStrike">
                  <a:solidFill>
                    <a:srgbClr val="cf7a66"/>
                  </a:solidFill>
                  <a:latin typeface="Comic Sans MS"/>
                </a:rPr>
                <a:t>	</a:t>
              </a:r>
              <a:r>
                <a:rPr b="1" lang="en-US" sz="1000" spc="-1" strike="noStrike">
                  <a:solidFill>
                    <a:srgbClr val="cf7a66"/>
                  </a:solidFill>
                  <a:latin typeface="Comic Sans MS"/>
                </a:rPr>
                <a:t>Media in </a:t>
              </a:r>
              <a:r>
                <a:rPr b="1" i="1" lang="en-US" sz="1000" spc="-1" strike="noStrike">
                  <a:solidFill>
                    <a:srgbClr val="cf7a66"/>
                  </a:solidFill>
                  <a:latin typeface="Comic Sans MS"/>
                </a:rPr>
                <a:t>MO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" name="" descr=""/>
            <p:cNvPicPr/>
            <p:nvPr/>
          </p:nvPicPr>
          <p:blipFill>
            <a:blip r:embed="rId2"/>
            <a:stretch/>
          </p:blipFill>
          <p:spPr>
            <a:xfrm>
              <a:off x="4143240" y="6399360"/>
              <a:ext cx="1594080" cy="45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" name=""/>
          <p:cNvSpPr/>
          <p:nvPr/>
        </p:nvSpPr>
        <p:spPr>
          <a:xfrm>
            <a:off x="344520" y="333360"/>
            <a:ext cx="92170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345960" y="1917720"/>
            <a:ext cx="921564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4520" y="333360"/>
            <a:ext cx="924408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344160" y="1599840"/>
            <a:ext cx="927108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ftr" idx="1"/>
          </p:nvPr>
        </p:nvSpPr>
        <p:spPr>
          <a:xfrm>
            <a:off x="1208160" y="6308280"/>
            <a:ext cx="741672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000000"/>
                </a:solidFill>
                <a:latin typeface="Arial"/>
              </a:rPr>
              <a:t>© 2004 Truckmania Pty Ltd. All rights reserved. The contents of this document are confidential and may not be used or disclosed without prior authorisa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36520" y="981000"/>
            <a:ext cx="76615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 Rounded MT Bold"/>
              </a:rPr>
              <a:t>REVOLUTIONIS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 Rounded MT Bold"/>
              </a:rPr>
              <a:t>THE STREETSCAP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39800" y="4292640"/>
            <a:ext cx="6977160" cy="1900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39800" y="357336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ndown Launch 06/0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60520" y="476280"/>
            <a:ext cx="8712000" cy="5808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60520" y="476280"/>
            <a:ext cx="8640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04880" y="476280"/>
            <a:ext cx="8569440" cy="5713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60520" y="404640"/>
            <a:ext cx="8785080" cy="5857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36520" y="476280"/>
            <a:ext cx="7632720" cy="5726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60520" y="404640"/>
            <a:ext cx="8713800" cy="5808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31800" y="476280"/>
            <a:ext cx="8640720" cy="5759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60520" y="476280"/>
            <a:ext cx="8713800" cy="5808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65240" y="549360"/>
            <a:ext cx="7705800" cy="5780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36520" y="404640"/>
            <a:ext cx="7705800" cy="5780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44520" y="260280"/>
            <a:ext cx="92440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Rounded MT Bold"/>
              </a:rPr>
              <a:t>XXXX Gold Retr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2880" y="1341360"/>
            <a:ext cx="9360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XXXX Gold Retreat Design, Build &amp; Fabrication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Truckm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gency, Concept &amp; Campaign Management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perations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Truckmania /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gency Client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Lion Nathan – XXXX G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04880" y="549360"/>
            <a:ext cx="8496360" cy="5664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31800" y="476280"/>
            <a:ext cx="8569440" cy="5713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5240" y="476280"/>
            <a:ext cx="7704000" cy="5776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36520" y="476280"/>
            <a:ext cx="7632720" cy="5722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15800" y="1190520"/>
            <a:ext cx="9001080" cy="4542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36520" y="476280"/>
            <a:ext cx="7632720" cy="5724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60520" y="404640"/>
            <a:ext cx="8785080" cy="5857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31800" y="476280"/>
            <a:ext cx="8712360" cy="5807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31800" y="476280"/>
            <a:ext cx="8712360" cy="5808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8T12:57:14Z</dcterms:created>
  <dc:creator>Rob McKay</dc:creator>
  <dc:description/>
  <dc:language>en-US</dc:language>
  <cp:lastModifiedBy>Brenden Rolley</cp:lastModifiedBy>
  <dcterms:modified xsi:type="dcterms:W3CDTF">2008-06-26T06:46:16Z</dcterms:modified>
  <cp:revision>160</cp:revision>
  <dc:subject/>
  <dc:title>Slide 1</dc:title>
</cp:coreProperties>
</file>